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EE8-2DC3-491A-8987-BA855486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DAC-C2C2-40A0-80FD-1F23C912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06F-6200-478B-9922-5E1D4C8F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3B6-E559-4CEC-9317-E2493E5F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FAF05-0E75-4ABE-A2B6-353C90AD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0B45A-84F8-4AAC-A12A-AF2282B4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A960A-29AB-413F-A9E9-4E36974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C56B2-F818-4599-8C52-9EA910D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B925-2056-4A23-8E03-8C88312A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E121-36E6-403D-BD07-D4CFB26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41CD-2D7A-491E-9DF2-2F0359E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EE8-29A9-41D9-AE97-65F7AE1E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EA15-2985-4735-B8B8-88E1D55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C84B-076F-4E8D-890C-A699A90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C22CB-0636-464D-B0C6-2ED9F2E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3E3E9-C1B9-490F-A424-AE5327D2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96DB3-8A68-4997-8675-12EE5AA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CB6-B6F1-4826-B37E-24B14C48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640-A63C-49D3-9F4D-880C2057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CCE-29F8-4251-B708-0B2A675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7D4-9FC9-4F1B-98F2-C0C11FA1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2FA-ABC3-44F2-A890-2466054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66F-C2AF-4382-BE85-2F01162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A31-F5BC-45F8-9384-D0A419C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634-E5FF-45A9-B2B9-B44E31955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4895-9FDB-4AA0-9631-1737331AE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Snap ITC"/>
              </a:rPr>
              <a:t>How did Maori get to</a:t>
            </a: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0" lang="en-NZ" sz="4000" spc="-1" strike="noStrike">
                <a:solidFill>
                  <a:srgbClr val="ff3300"/>
                </a:solidFill>
                <a:latin typeface="Snap ITC"/>
              </a:rPr>
              <a:t>New zealand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0000"/>
                </a:solidFill>
                <a:latin typeface="Snap ITC"/>
              </a:rPr>
              <a:t>By JJ and Alzar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How many  people can  fit in a war cano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nap ITC"/>
              </a:rPr>
              <a:t>(war canoes) are large canoes manned by up to 80 paddler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33134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This is a picture of canoes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56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475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Snap ITC"/>
              </a:rPr>
              <a:t>How long is a cano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A canoe is 130 ft long or 40 meters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156120"/>
            <a:ext cx="72723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Arrival Of The Maor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Snap ITC"/>
              </a:rPr>
              <a:t>About 6000 years ago a group of people began to move eastwards from south-east Asia.They travelled in outrigger canoes with pigs dog rats chickens and some root and tree crops.They could carve  and make pottery and were good at fish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Key point Maori arrivals</a:t>
            </a: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Maori came to aotearoa from eastern polyne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ir voyages were deliberate and carefully plan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were expert sail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arrived in about ad 13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brought with them the kumara the kiore and the dog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Hope You like Our power point</a:t>
            </a: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03320"/>
            <a:ext cx="82803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2:54:14Z</dcterms:created>
  <dc:creator>5d25</dc:creator>
  <dc:description/>
  <dc:language>en-US</dc:language>
  <cp:lastModifiedBy>5d29</cp:lastModifiedBy>
  <dcterms:modified xsi:type="dcterms:W3CDTF">2013-06-14T02:48:40Z</dcterms:modified>
  <cp:revision>6</cp:revision>
  <dc:subject/>
  <dc:title>How did maori get to nz.</dc:title>
</cp:coreProperties>
</file>